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CFAD-A1BB-4F8B-82E9-5595487B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71BE-0BC8-4DF3-90F8-85B333AE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8D51-1692-4648-83C5-16E83741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17AE-7E28-4FE3-83B4-0A1391C1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82E8-DF34-445B-8C29-382198EC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1153-3716-44C2-BE96-55C9A6FD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9A0D-070B-4EA8-9CBD-BA2B1103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F771-7684-4803-A92A-C9257FA8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9FEA-F58E-4241-A678-CC881777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3793-585A-40ED-9E2A-609DEFA4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1643-35CE-4633-AA1F-626191C9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B35F-FAC6-4FDE-8B8E-05929DC8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44ED-28C3-4D1C-926B-84D744C4AF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6095880" cy="6464160"/>
          </a:xfrm>
          <a:prstGeom prst="rect">
            <a:avLst/>
          </a:prstGeom>
          <a:ln w="9360">
            <a:solidFill>
              <a:srgbClr val="0c12d9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657600" y="3733920"/>
            <a:ext cx="1789200" cy="182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581280" y="990720"/>
            <a:ext cx="167652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urlz MT"/>
              </a:rPr>
              <a:t>We Need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657600" y="5867280"/>
            <a:ext cx="2057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urlz MT"/>
              </a:rPr>
              <a:t>More Spac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urlz MT"/>
              <a:ea typeface="Curlz M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00400" y="2057400"/>
            <a:ext cx="2895480" cy="1463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V="1">
            <a:off x="3657600" y="3733920"/>
            <a:ext cx="1828800" cy="1828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3809880"/>
            <a:ext cx="1828800" cy="1752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3:34:48Z</dcterms:created>
  <dc:creator>PA Department of Education</dc:creator>
  <dc:description/>
  <dc:language>en-US</dc:language>
  <cp:lastModifiedBy>PA Department of Education</cp:lastModifiedBy>
  <dcterms:modified xsi:type="dcterms:W3CDTF">2009-02-04T13:43:37Z</dcterms:modified>
  <cp:revision>3</cp:revision>
  <dc:subject/>
  <dc:title>PowerPoint Presentation</dc:title>
</cp:coreProperties>
</file>